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36665"/>
        <c:axId val="87787288"/>
      </c:barChart>
      <c:catAx>
        <c:axId val="7173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87288"/>
        <c:crosses val="autoZero"/>
        <c:auto val="1"/>
        <c:lblAlgn val="ctr"/>
        <c:lblOffset val="100"/>
        <c:noMultiLvlLbl val="0"/>
      </c:catAx>
      <c:valAx>
        <c:axId val="87787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3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64A-FD84-41DA-84F3-8146A1FE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819-A2E7-4EBA-963D-2D5DB1F0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231-7523-429A-A3C6-B73D3C95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FC5-0074-4A65-B4AE-DBC95DC8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F38-0F2B-4A49-BDB6-39C57E77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D74-899C-45B0-886A-3E9252D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133-CA8B-4497-9DF2-4EDD8707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47A-F984-4CFA-A57D-3DC1C1E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AA3-7D1F-4F4C-8284-C5876E8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24D-0F8F-4250-96EC-6180769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CE3-50E8-44A1-99BB-CBDA7441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3E0-6467-475F-8294-69CD36B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3D5A1-9C39-47C6-81A0-FC7B2CFC9B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