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66744"/>
        <c:axId val="34631919"/>
      </c:barChart>
      <c:catAx>
        <c:axId val="53266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31919"/>
        <c:crosses val="autoZero"/>
        <c:auto val="1"/>
        <c:lblAlgn val="ctr"/>
        <c:lblOffset val="100"/>
        <c:noMultiLvlLbl val="0"/>
      </c:catAx>
      <c:valAx>
        <c:axId val="34631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6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6A6-D8A2-4AB3-95EE-47A07F4A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5CF-D0D3-4356-A5E8-8A7FAB0C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0F8-5A42-4651-83E8-0B8EF1F2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2C1-7C86-4EBD-85AC-615BD5C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8E1-41CE-441C-B434-BC3AA806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1D0-67D0-490D-BA27-343B57D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F3A-9C3F-4D2F-8677-1607BF73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61D-6287-43F1-8A95-E834E07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0A8-1714-4D7F-8BCB-C4CE7A94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DCD-DDFF-4548-86A3-E102DC3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5AF-5244-4DAD-85D6-10373BF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40A-E5BD-4A9F-8D75-5054F9E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E1F53-8299-497E-9C95-D8EBB3304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