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35910"/>
        <c:axId val="10577246"/>
      </c:barChart>
      <c:catAx>
        <c:axId val="41535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77246"/>
        <c:crosses val="autoZero"/>
        <c:auto val="1"/>
        <c:lblAlgn val="ctr"/>
        <c:lblOffset val="100"/>
        <c:noMultiLvlLbl val="0"/>
      </c:catAx>
      <c:valAx>
        <c:axId val="10577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35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67C-F268-4250-881A-C3866BC6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A92-2DA4-4CD0-95DC-5ABD0453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5AA-DC85-470C-97FE-26EAC6B3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DD17-AACE-4D8B-B4CB-DC616C5A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2C7-1E82-4A37-AB4B-28CE1356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4EC-890A-4A05-8471-96A6690F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42E-D1BC-410D-8DB0-B8A2C029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6D7C-4AA3-43E1-927D-722A5A1E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65F-3291-403C-9E03-6C65D846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2B4A-9EC0-4034-B08B-0299384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9CF-E924-4D80-8664-6C10137C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D007-C691-4EC9-838A-872402CD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5DB67-0BBC-4BDD-8466-25286DE943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